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E0B-2A6A-4266-9E1B-AB1966AE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8A4-69E6-4AAC-AA58-7C17D44B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946-D112-4126-AC23-3D4DC4D1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A39-EB54-47E2-AB70-7F371DC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226-B54D-49E4-81F0-2B8CFD8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36B-9EC1-42DF-90A7-A4497C9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2E0-5FB0-4C6D-B2CE-C3823D2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981-59C2-4567-A4F2-B49909A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DFF-04EF-40B9-98A9-0A3D6501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B7D-5EC5-408A-9997-83D9827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44B-364D-47EF-82A9-77827CE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775-A23E-4DD5-860A-F8BA671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775B-CAD7-4869-9CDD-3DA20C0B542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3319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7:57:10Z</dcterms:created>
  <dc:creator>dhmz</dc:creator>
  <dc:description/>
  <dc:language>en-US</dc:language>
  <cp:lastModifiedBy>dhmz</cp:lastModifiedBy>
  <dcterms:modified xsi:type="dcterms:W3CDTF">2014-11-18T07:57:55Z</dcterms:modified>
  <cp:revision>1</cp:revision>
  <dc:subject/>
  <dc:title>Slide 1</dc:title>
</cp:coreProperties>
</file>